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CEC-4715-4B23-9766-9859896E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54C-AF5C-481C-AA9E-8AC75C42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7BB-E156-48D9-9B27-5D2D3004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CD5-C376-46A7-822F-6EBE195D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5C5B-CCE2-468E-ADBD-6E5E8C97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D6B8-3ECE-485A-BCDB-69E52A78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2E41-309D-438B-9BDB-270067D5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1F8E-C7BD-4E26-9160-1902B2B0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CEB4-7600-47BA-829E-D85AE0B8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769F-85E6-409F-B01A-330C1B3B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D999-F4E5-4449-8E35-C67EC5D8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7B4-9503-4FFD-AC74-C4B9E1D9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33A4-95DF-4EF1-92F7-1FFF96A9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3A05-4833-4F87-8C7B-252550D6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099D-4513-4882-9F0C-24B99F2F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8C3C-7E60-4EAC-AAC1-895BFFFD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E5C0-4DBA-49F9-8B76-B1475717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2DEE-FB0A-4A74-87A7-8ED4F09E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7CD9-235C-4BE7-BCB6-4C7E8AD9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84FD-7BDD-45F5-94E7-74D8AB22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0DBBA-3C3D-47FB-9EED-6C72A7FB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994B-7094-4A59-B58C-C118142E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A51-F313-4C1F-98E3-9238F265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A3BE-7203-4E79-ACE0-3CF6A619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A529-09A1-4113-80A4-594C042A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04BA-93D8-4BB2-AB9E-86CF555B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7BC0-C54D-44FE-8942-9080DF3B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3752-3788-4A26-97D3-F8CBDFF2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46FB-A3D6-40C5-A852-A0D3AF25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2617E-A1F2-435B-9159-9D4F3577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8FFAD-D36B-4281-BB7E-E0E187D1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6487C-DFAC-4DE2-8CCF-BF621313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A2C8D-217D-4DD0-A8B0-9932BE52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7AF-5684-420D-A8F0-B3BC1C22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5A49-FE8C-4E84-BC06-F3831B07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31659-8396-4BCF-AF84-1C2BE37B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407A-4FB0-45A7-97B2-EA04D40E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19470-B9C6-4770-9FFD-49A0B9B9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6EDF-9625-4469-9085-2251F56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A1492-7C38-4D98-8D34-2DF6E063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B20D-097C-459F-A466-8451F6AE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D300F-8718-4E3B-BFCC-404BC894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F4AC-C4FB-4EC9-896C-40705135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0D94C-97C3-4614-B8FE-007B37B6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BE6-5A49-44C0-AB96-25BACFDD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372F9-1A67-44FA-A1D4-D4FC27CA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EB332-E703-477C-82B5-38C42947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02D7-90BF-4D35-B720-D5085C7E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06FE0-69F4-498D-B5AA-DE91F85B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99FDD-5880-4FF5-9827-1E3F7094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A7A43-3085-4F44-8CF0-53600222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4EDBE-2B99-4A04-8D91-C41C2C79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05ECB-A465-47D7-8FAE-C9D8D0F7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9162B-323C-4D39-816C-F29881C3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EC37B-48A9-4D84-9B01-995100E6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647-43E7-480B-98A9-F81C6BCB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4D440-3218-4D49-A8AA-7C806D47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6DAC9-EDF5-4FF4-9BAC-93255165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F9F8-A41F-49F3-87B3-D02CEAD1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99EEB-F238-41AE-B0CC-312A4F5E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4F8A6-9442-40F8-9D03-0B8555FF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A924C-49A5-4F43-8AC0-D3F04A35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DDC6-C2AC-4467-B33A-959295BD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6629B-4EAE-4059-A36A-1B654D11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F09C9-291C-4A63-8538-82CD0AE1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03620-155C-47A9-9C01-F3CF4AC1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2B6-A5C0-496C-9656-F0606E4B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8DF9E-1D3B-4F10-A10C-BBF11F9F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E6E90-319A-4644-B86C-134B3720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B93C8-7C60-46D5-9768-1FD6B7AE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FA206-C771-405C-89F9-873DDB84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66E73-1618-4FD5-A14B-7A6FA972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3129B-B0D5-4F79-BFB5-66664449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6710-8821-4810-8331-B5CD10B5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25578-D584-41FD-BD01-788F0C70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07725-0604-4CEB-BBDE-56E54E76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D71FF-534F-45B1-8351-F6D76C89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0E6-D065-4CA9-83E1-BBB8DC67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A7A4-75DD-4711-9CCC-D7F01492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45940-D8B7-48AF-9C3F-018C35B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78784-C309-4CCD-A430-AF9DD8ED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C5D11-7BAF-44F9-930C-68F82E2B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121CF-6E7B-42B4-9B22-2D853414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BBD-065E-40A5-9F6E-404426BE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69A1-B22D-4808-BBD3-AB594F53BE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선 연결선 6"/>
          <p:cNvSpPr/>
          <p:nvPr/>
        </p:nvSpPr>
        <p:spPr>
          <a:xfrm>
            <a:off x="1285920" y="3643200"/>
            <a:ext cx="650088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71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22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438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D046-7115-458B-9949-ED94746C6A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6"/>
          <p:cNvSpPr/>
          <p:nvPr/>
        </p:nvSpPr>
        <p:spPr>
          <a:xfrm>
            <a:off x="500040" y="1357200"/>
            <a:ext cx="678672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7BE5-6433-4E8F-A68E-CA8745CBAA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직선 연결선 6"/>
          <p:cNvSpPr/>
          <p:nvPr/>
        </p:nvSpPr>
        <p:spPr>
          <a:xfrm flipV="1">
            <a:off x="512640" y="4714560"/>
            <a:ext cx="8202600" cy="28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584B-4DEC-4F4C-B192-5D6DFF6F6E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직선 연결선 6"/>
          <p:cNvSpPr/>
          <p:nvPr/>
        </p:nvSpPr>
        <p:spPr>
          <a:xfrm>
            <a:off x="500040" y="6215040"/>
            <a:ext cx="8143920" cy="1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55FE-7310-4466-81E8-B11E1484B3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직선 연결선 6"/>
          <p:cNvSpPr/>
          <p:nvPr/>
        </p:nvSpPr>
        <p:spPr>
          <a:xfrm>
            <a:off x="500040" y="1214280"/>
            <a:ext cx="757224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CF30-D8E9-40EB-831C-C1DFA298F3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5744-4B20-4A32-AEA0-AAD41A8247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480960" y="2567160"/>
            <a:ext cx="8102520" cy="10112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000080" y="3929040"/>
            <a:ext cx="712944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sica Nance, Hyorim Park, Deepa Raj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9266400" cy="12448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ositive Distraction for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ur of the Hospital’s 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gl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ellite view of other areas of the world (NYC, DC, grand canyon…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180560" cy="938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http://scienceroll.files.wordpress.com/2008/08/imperial-1-small.jpg"/>
          <p:cNvPicPr/>
          <p:nvPr/>
        </p:nvPicPr>
        <p:blipFill>
          <a:blip r:embed="rId2"/>
          <a:stretch/>
        </p:blipFill>
        <p:spPr>
          <a:xfrm>
            <a:off x="609480" y="1523880"/>
            <a:ext cx="3276720" cy="2291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http://www.popsci.com/files/imagecache/article_image_large/files/articles/GoogleEarth-Manhattan.jpg"/>
          <p:cNvPicPr/>
          <p:nvPr/>
        </p:nvPicPr>
        <p:blipFill>
          <a:blip r:embed="rId4"/>
          <a:stretch/>
        </p:blipFill>
        <p:spPr>
          <a:xfrm>
            <a:off x="609480" y="4038480"/>
            <a:ext cx="3276720" cy="2425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http://penfall.files.wordpress.com/2007/04/grand-canyon222.jpg"/>
          <p:cNvPicPr/>
          <p:nvPr/>
        </p:nvPicPr>
        <p:blipFill>
          <a:blip r:embed="rId5"/>
          <a:stretch/>
        </p:blipFill>
        <p:spPr>
          <a:xfrm>
            <a:off x="4114800" y="4038480"/>
            <a:ext cx="3581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are b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worsen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lack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to stress and bor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realistic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willing to w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제목 1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7437600" cy="1244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85640" y="1500120"/>
            <a:ext cx="8229600" cy="4626000"/>
          </a:xfrm>
          <a:prstGeom prst="rect">
            <a:avLst/>
          </a:prstGeom>
          <a:ln w="0">
            <a:noFill/>
          </a:ln>
        </p:spPr>
      </p:pic>
      <p:grpSp>
        <p:nvGrpSpPr>
          <p:cNvPr id="298" name="그룹 8"/>
          <p:cNvGrpSpPr/>
          <p:nvPr/>
        </p:nvGrpSpPr>
        <p:grpSpPr>
          <a:xfrm>
            <a:off x="685800" y="1523880"/>
            <a:ext cx="7620120" cy="4267440"/>
            <a:chOff x="685800" y="1523880"/>
            <a:chExt cx="7620120" cy="4267440"/>
          </a:xfrm>
        </p:grpSpPr>
        <p:sp>
          <p:nvSpPr>
            <p:cNvPr id="299" name="모서리가 둥근 직사각형 3"/>
            <p:cNvSpPr/>
            <p:nvPr/>
          </p:nvSpPr>
          <p:spPr>
            <a:xfrm>
              <a:off x="5715000" y="457200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Positive Distrac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모서리가 둥근 직사각형 4"/>
            <p:cNvSpPr/>
            <p:nvPr/>
          </p:nvSpPr>
          <p:spPr>
            <a:xfrm>
              <a:off x="685800" y="152388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Self Registr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모서리가 둥근 직사각형 5"/>
            <p:cNvSpPr/>
            <p:nvPr/>
          </p:nvSpPr>
          <p:spPr>
            <a:xfrm>
              <a:off x="685800" y="464832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Providing Inform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모서리가 둥근 직사각형 6"/>
            <p:cNvSpPr/>
            <p:nvPr/>
          </p:nvSpPr>
          <p:spPr>
            <a:xfrm>
              <a:off x="5715000" y="152388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Monitoring Vital Sig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3" name="Picture 2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838160" cy="1557360"/>
          </a:xfrm>
          <a:prstGeom prst="rect">
            <a:avLst/>
          </a:prstGeom>
          <a:ln w="0">
            <a:noFill/>
          </a:ln>
        </p:spPr>
      </p:pic>
      <p:cxnSp>
        <p:nvCxnSpPr>
          <p:cNvPr id="304" name="Shape 14"/>
          <p:cNvCxnSpPr>
            <a:endCxn id="302" idx="2"/>
          </p:cNvCxnSpPr>
          <p:nvPr/>
        </p:nvCxnSpPr>
        <p:spPr>
          <a:xfrm flipV="1">
            <a:off x="5486040" y="2666160"/>
            <a:ext cx="1524600" cy="68652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5" name="Shape 16"/>
          <p:cNvCxnSpPr>
            <a:endCxn id="299" idx="0"/>
          </p:cNvCxnSpPr>
          <p:nvPr/>
        </p:nvCxnSpPr>
        <p:spPr>
          <a:xfrm>
            <a:off x="5486040" y="4038480"/>
            <a:ext cx="1524600" cy="53424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6" name="Shape 18"/>
          <p:cNvCxnSpPr>
            <a:endCxn id="300" idx="2"/>
          </p:cNvCxnSpPr>
          <p:nvPr/>
        </p:nvCxnSpPr>
        <p:spPr>
          <a:xfrm rot="10800000">
            <a:off x="1980360" y="2666160"/>
            <a:ext cx="1677240" cy="68652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7" name="Shape 20"/>
          <p:cNvCxnSpPr>
            <a:endCxn id="301" idx="0"/>
          </p:cNvCxnSpPr>
          <p:nvPr/>
        </p:nvCxnSpPr>
        <p:spPr>
          <a:xfrm flipV="1" rot="10800000">
            <a:off x="1980360" y="4038120"/>
            <a:ext cx="1677240" cy="61056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receiving the ER Assistant the patient will be asked to enter that information into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formation will be sent to the reception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fully functionality will allow for integration with the hospitals EH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제목 5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78152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IMG_0777"/>
          <p:cNvPicPr/>
          <p:nvPr/>
        </p:nvPicPr>
        <p:blipFill>
          <a:blip r:embed="rId2"/>
          <a:stretch/>
        </p:blipFill>
        <p:spPr>
          <a:xfrm>
            <a:off x="609480" y="160020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IMG_0782"/>
          <p:cNvPicPr/>
          <p:nvPr/>
        </p:nvPicPr>
        <p:blipFill>
          <a:blip r:embed="rId3"/>
          <a:stretch/>
        </p:blipFill>
        <p:spPr>
          <a:xfrm>
            <a:off x="4114800" y="160020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4"/>
          <a:stretch/>
        </p:blipFill>
        <p:spPr>
          <a:xfrm>
            <a:off x="609480" y="39625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4191120" y="3962520"/>
            <a:ext cx="3124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047080" cy="1244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s vital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ssistant will have an attachment that will take the patients vital sig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ill be loaded to a screen for the nurses to monitor while the patient is in the wait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구름 7"/>
          <p:cNvSpPr/>
          <p:nvPr/>
        </p:nvSpPr>
        <p:spPr>
          <a:xfrm>
            <a:off x="3048120" y="2971800"/>
            <a:ext cx="1523880" cy="1447920"/>
          </a:xfrm>
          <a:prstGeom prst="pie">
            <a:avLst/>
          </a:prstGeom>
          <a:solidFill>
            <a:srgbClr val="ffffff"/>
          </a:solidFill>
          <a:ln w="22320">
            <a:solidFill>
              <a:srgbClr val="748f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4952880" y="2109960"/>
            <a:ext cx="3767400" cy="2995560"/>
          </a:xfrm>
          <a:prstGeom prst="rect">
            <a:avLst/>
          </a:prstGeom>
          <a:ln w="0">
            <a:noFill/>
          </a:ln>
        </p:spPr>
      </p:pic>
      <p:pic>
        <p:nvPicPr>
          <p:cNvPr id="319" name="제목 1" descr=""/>
          <p:cNvPicPr/>
          <p:nvPr/>
        </p:nvPicPr>
        <p:blipFill>
          <a:blip r:embed="rId2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edmundsweightloss.com/images/generic_arm_band.bmp"/>
          <p:cNvPicPr/>
          <p:nvPr/>
        </p:nvPicPr>
        <p:blipFill>
          <a:blip r:embed="rId3"/>
          <a:stretch/>
        </p:blipFill>
        <p:spPr>
          <a:xfrm>
            <a:off x="609480" y="2133720"/>
            <a:ext cx="1981440" cy="3124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4"/>
          <a:stretch/>
        </p:blipFill>
        <p:spPr>
          <a:xfrm rot="21202800">
            <a:off x="5613480" y="2530080"/>
            <a:ext cx="2514600" cy="2106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/>
          <p:cNvPicPr/>
          <p:nvPr/>
        </p:nvPicPr>
        <p:blipFill>
          <a:blip r:embed="rId5"/>
          <a:stretch/>
        </p:blipFill>
        <p:spPr>
          <a:xfrm>
            <a:off x="3429000" y="3276720"/>
            <a:ext cx="685800" cy="815760"/>
          </a:xfrm>
          <a:prstGeom prst="rect">
            <a:avLst/>
          </a:prstGeom>
          <a:ln w="0">
            <a:noFill/>
          </a:ln>
        </p:spPr>
      </p:pic>
      <p:sp>
        <p:nvSpPr>
          <p:cNvPr id="323" name="직선 연결선 9"/>
          <p:cNvSpPr/>
          <p:nvPr/>
        </p:nvSpPr>
        <p:spPr>
          <a:xfrm flipV="1">
            <a:off x="4343400" y="3606480"/>
            <a:ext cx="609480" cy="507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직선 연결선 11"/>
          <p:cNvSpPr/>
          <p:nvPr/>
        </p:nvSpPr>
        <p:spPr>
          <a:xfrm flipV="1">
            <a:off x="2514600" y="3352680"/>
            <a:ext cx="762120" cy="457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120160" cy="12448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Information about the wait that may be incurred and the triag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ing registration the device will inform the patient about estimated wait time for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about the triage process and the ED will also be g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85640" y="150012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05:30Z</dcterms:created>
  <dc:creator>gradstudent</dc:creator>
  <dc:description/>
  <dc:language>en-US</dc:language>
  <cp:lastModifiedBy>박효림</cp:lastModifiedBy>
  <dcterms:modified xsi:type="dcterms:W3CDTF">2008-10-28T19:03:08Z</dcterms:modified>
  <cp:revision>9</cp:revision>
  <dc:subject/>
  <dc:title>Personal ER Assistant ()</dc:title>
</cp:coreProperties>
</file>